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  <p:custShowLst>
    <p:custShow name="Custom Show 1" id="0">
      <p:sldLst>
        <p:sld r:id="rId3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8EB-E654-4125-ADBD-D3292031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186-7BE5-4558-B2F2-08611EF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04F-203E-4382-A7C2-FA4DCD6E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1E7-5A42-41A4-A9CC-83C4A351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9C5-C550-427C-B606-287BFAAC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86F-742B-441C-8C15-852FC065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9DF-41EB-4AE7-B1D6-AFFDD64B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B12-711C-46F1-969B-3EAD1136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358-B79F-47C4-A410-1A9CAD1B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B80-D844-4CC0-A02E-31067465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D9B-8492-48B7-93DE-9DF926AC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181-D018-44CB-B3C1-E9D6B0B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D4CB-DF20-498B-9B7D-FAD3C4D8A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millionaire%20money%20list" descr=""/>
          <p:cNvPicPr/>
          <p:nvPr/>
        </p:nvPicPr>
        <p:blipFill>
          <a:blip r:embed="rId2"/>
          <a:stretch/>
        </p:blipFill>
        <p:spPr>
          <a:xfrm>
            <a:off x="4821120" y="304920"/>
            <a:ext cx="4056120" cy="6172200"/>
          </a:xfrm>
          <a:prstGeom prst="rect">
            <a:avLst/>
          </a:prstGeom>
          <a:ln w="0">
            <a:noFill/>
          </a:ln>
        </p:spPr>
      </p:pic>
      <p:pic>
        <p:nvPicPr>
          <p:cNvPr id="43" name="millionaire%20logo%20small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3429000" cy="289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514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295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914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257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5638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6095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4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5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6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7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8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9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0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1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4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6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8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0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3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3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5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7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8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8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5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6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7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7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9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0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0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1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2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2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2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3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4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4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6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6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6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7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8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9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9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0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1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1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2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3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3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3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5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5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5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5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7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9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7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8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8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9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9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0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71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millionaire%20logo%20small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2920320" y="557280"/>
            <a:ext cx="333396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eat Job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0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2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2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2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4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5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5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6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7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7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8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9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9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1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1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1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3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STANLEY</dc:creator>
  <dc:description/>
  <dc:language>en-US</dc:language>
  <cp:lastModifiedBy>srubin</cp:lastModifiedBy>
  <cp:lastPrinted>2000-05-03T23:45:17Z</cp:lastPrinted>
  <dcterms:modified xsi:type="dcterms:W3CDTF">2001-10-05T14:10:23Z</dcterms:modified>
  <cp:revision>30</cp:revision>
  <dc:subject/>
  <dc:title>No Slide Title</dc:title>
</cp:coreProperties>
</file>