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53F-EA03-45D5-A67E-BC09C11C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0FB-B157-4D67-A6CB-94A95CD5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6AD-1093-4505-98CB-86DC72EE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C2F-7F3E-4F17-B9C3-0F51025F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493C-14CD-451B-983C-211D795B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1EC8-1848-4E7D-AC46-EACEA307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38B0-633D-4AAB-BBCF-B3D811C2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46EA-8608-470C-834D-DFD53F63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6160-3E89-434E-A9ED-DABF6477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784A-6D06-459D-9D10-D7F5A922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1D57-E342-48FB-9A28-36AC4F0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408-6D63-48CA-8201-4C95CC0D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861F-942D-46E5-9210-F1B1BFD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C868-FBD0-4343-8426-63C8E0AE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EA66-3DB6-4FCE-A822-B8EA7E79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A78F-2643-49D9-9C74-27326B69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D20B-3532-45C7-A326-7A5D8A29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B74-F8B2-4F9B-BC50-234C5ADB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4F2-E3F6-4193-BC7A-161A6B98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389-E2F7-466D-B596-39080A79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09A-90E2-443F-A295-EC3C6409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8C4-F33A-43DC-A3ED-A7EFCC7B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E27-7A9C-4880-8F48-D197D422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DE5-36E2-4A10-8236-A193BA8C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8EDF-1725-42BF-AFB1-F83671DAD1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B851-F811-417A-AF29-66C9F07F804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Connie Campbell</cp:lastModifiedBy>
  <dcterms:modified xsi:type="dcterms:W3CDTF">2008-02-14T14:42:38Z</dcterms:modified>
  <cp:revision>21</cp:revision>
  <dc:subject/>
  <dc:title>Are You Smarter  Than a 5th Grader?</dc:title>
</cp:coreProperties>
</file>