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32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132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7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38.xml.rels" ContentType="application/vnd.openxmlformats-package.relationships+xml"/>
  <Override PartName="/ppt/slides/_rels/slide5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57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53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10.xml" ContentType="application/vnd.openxmlformats-officedocument.presentationml.slide+xml"/>
  <Override PartName="/ppt/slides/slide14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57CA-4AFF-46D1-876C-DD0064CE2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4F26-3EE4-4B1B-BF36-2DDA270B5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DAEF-9DEE-4BDB-B5B3-951862CBC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A78C-E745-4617-8858-65E5BA498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6A47-D916-4083-8353-3A2E66286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4714-7EB5-41F3-879B-0039012FF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6BD5-FB85-447B-BD0C-E0B0994F4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9441-4C1F-47DA-B254-EC4338430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6283-2089-4A56-80A6-AAB997BA9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2640-1B4D-4EAA-9256-063F7C44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2FB8-EAD5-42E2-BA52-28C59A548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6840-102E-4390-ACDC-19AA0F8D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13F53-17A0-4258-A867-E16F23884B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9.xml"/><Relationship Id="rId3" Type="http://schemas.openxmlformats.org/officeDocument/2006/relationships/slide" Target="slide81.xml"/><Relationship Id="rId4" Type="http://schemas.openxmlformats.org/officeDocument/2006/relationships/slide" Target="slide83.xml"/><Relationship Id="rId5" Type="http://schemas.openxmlformats.org/officeDocument/2006/relationships/slide" Target="slide85.xml"/><Relationship Id="rId6" Type="http://schemas.openxmlformats.org/officeDocument/2006/relationships/slide" Target="slide87.xml"/><Relationship Id="rId7" Type="http://schemas.openxmlformats.org/officeDocument/2006/relationships/slide" Target="slide89.xml"/><Relationship Id="rId8" Type="http://schemas.openxmlformats.org/officeDocument/2006/relationships/slide" Target="slide91.xml"/><Relationship Id="rId9" Type="http://schemas.openxmlformats.org/officeDocument/2006/relationships/slide" Target="slide93.xml"/><Relationship Id="rId10" Type="http://schemas.openxmlformats.org/officeDocument/2006/relationships/slide" Target="slide95.xml"/><Relationship Id="rId11" Type="http://schemas.openxmlformats.org/officeDocument/2006/relationships/slide" Target="slide97.xml"/><Relationship Id="rId1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" Target="slide17.xml"/><Relationship Id="rId7" Type="http://schemas.openxmlformats.org/officeDocument/2006/relationships/slide" Target="slide19.xml"/><Relationship Id="rId8" Type="http://schemas.openxmlformats.org/officeDocument/2006/relationships/slide" Target="slide21.xml"/><Relationship Id="rId9" Type="http://schemas.openxmlformats.org/officeDocument/2006/relationships/slide" Target="slide23.xml"/><Relationship Id="rId10" Type="http://schemas.openxmlformats.org/officeDocument/2006/relationships/slide" Target="slide25.xml"/><Relationship Id="rId11" Type="http://schemas.openxmlformats.org/officeDocument/2006/relationships/slide" Target="slide27.xml"/><Relationship Id="rId12" Type="http://schemas.openxmlformats.org/officeDocument/2006/relationships/slide" Target="slide29.xml"/><Relationship Id="rId13" Type="http://schemas.openxmlformats.org/officeDocument/2006/relationships/slide" Target="slide31.xml"/><Relationship Id="rId14" Type="http://schemas.openxmlformats.org/officeDocument/2006/relationships/slide" Target="slide33.xml"/><Relationship Id="rId15" Type="http://schemas.openxmlformats.org/officeDocument/2006/relationships/slide" Target="slide35.xml"/><Relationship Id="rId16" Type="http://schemas.openxmlformats.org/officeDocument/2006/relationships/slide" Target="slide37.xml"/><Relationship Id="rId17" Type="http://schemas.openxmlformats.org/officeDocument/2006/relationships/slide" Target="slide39.xml"/><Relationship Id="rId18" Type="http://schemas.openxmlformats.org/officeDocument/2006/relationships/slide" Target="slide41.xml"/><Relationship Id="rId19" Type="http://schemas.openxmlformats.org/officeDocument/2006/relationships/slide" Target="slide43.xml"/><Relationship Id="rId20" Type="http://schemas.openxmlformats.org/officeDocument/2006/relationships/slide" Target="slide45.xml"/><Relationship Id="rId21" Type="http://schemas.openxmlformats.org/officeDocument/2006/relationships/slide" Target="slide47.xml"/><Relationship Id="rId22" Type="http://schemas.openxmlformats.org/officeDocument/2006/relationships/slide" Target="slide49.xml"/><Relationship Id="rId23" Type="http://schemas.openxmlformats.org/officeDocument/2006/relationships/slide" Target="slide51.xml"/><Relationship Id="rId24" Type="http://schemas.openxmlformats.org/officeDocument/2006/relationships/slide" Target="slide53.xml"/><Relationship Id="rId25" Type="http://schemas.openxmlformats.org/officeDocument/2006/relationships/slide" Target="slide55.xml"/><Relationship Id="rId26" Type="http://schemas.openxmlformats.org/officeDocument/2006/relationships/slide" Target="slide58.xml"/><Relationship Id="rId27" Type="http://schemas.openxmlformats.org/officeDocument/2006/relationships/slide" Target="slide60.xml"/><Relationship Id="rId28" Type="http://schemas.openxmlformats.org/officeDocument/2006/relationships/slide" Target="slide60.xml"/><Relationship Id="rId29" Type="http://schemas.openxmlformats.org/officeDocument/2006/relationships/slide" Target="slide62.xml"/><Relationship Id="rId30" Type="http://schemas.openxmlformats.org/officeDocument/2006/relationships/slide" Target="slide64.xml"/><Relationship Id="rId31" Type="http://schemas.openxmlformats.org/officeDocument/2006/relationships/slide" Target="slide66.xml"/><Relationship Id="rId32" Type="http://schemas.openxmlformats.org/officeDocument/2006/relationships/slide" Target="slide68.xml"/><Relationship Id="rId33" Type="http://schemas.openxmlformats.org/officeDocument/2006/relationships/slide" Target="slide70.xml"/><Relationship Id="rId34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2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63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66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69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72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75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78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81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84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87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90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1828800" y="205740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5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1828800" y="205740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93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828800" y="2133720"/>
            <a:ext cx="54100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1828800" y="2133720"/>
            <a:ext cx="54100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96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1828800" y="175248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1828800" y="175248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99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1828800" y="1981080"/>
            <a:ext cx="54100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1828800" y="1981080"/>
            <a:ext cx="54100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02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5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5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1828800" y="1752480"/>
            <a:ext cx="54100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1828800" y="1752480"/>
            <a:ext cx="54100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07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10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13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16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19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22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8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2057400" y="1295280"/>
            <a:ext cx="4724280" cy="227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inal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Jeopardy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295280" y="4572000"/>
            <a:ext cx="6934320" cy="15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Write the Final Question Here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1371600" y="1219320"/>
            <a:ext cx="6781680" cy="46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Writ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he Final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nswer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327" name="">
            <a:hlinkClick r:id="rId3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1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4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143000" y="1295280"/>
            <a:ext cx="6858000" cy="426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1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0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3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6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990720" y="990720"/>
            <a:ext cx="708660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2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2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5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8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4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3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7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0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3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6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9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1828800" y="205740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4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28800" y="205740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2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28800" y="2133720"/>
            <a:ext cx="54100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828800" y="2133720"/>
            <a:ext cx="54100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5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1828800" y="175248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1828800" y="175248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8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1828800" y="1981080"/>
            <a:ext cx="54100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1828800" y="1981080"/>
            <a:ext cx="54100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5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5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1828800" y="1752480"/>
            <a:ext cx="54100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828800" y="1752480"/>
            <a:ext cx="54100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6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914400" y="1828800"/>
            <a:ext cx="739152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5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9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2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5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8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1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6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1295280" y="1447920"/>
            <a:ext cx="655344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8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Doub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8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8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Jeopardy!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8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1143000" y="1295280"/>
            <a:ext cx="6858000" cy="426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1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990720" y="990720"/>
            <a:ext cx="708660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2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3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4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914400" y="1828800"/>
            <a:ext cx="739152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5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6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28600" y="304920"/>
            <a:ext cx="11430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1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2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276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3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4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5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7848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6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5280" y="5867280"/>
            <a:ext cx="14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1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59160" y="5864400"/>
            <a:ext cx="14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1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083400" y="5864400"/>
            <a:ext cx="14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1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607280" y="5864400"/>
            <a:ext cx="14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1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140880" y="5864400"/>
            <a:ext cx="14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1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664760" y="5864400"/>
            <a:ext cx="14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1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839080" y="6553080"/>
            <a:ext cx="228600" cy="15264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28600" y="304920"/>
            <a:ext cx="11430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1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2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276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3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4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5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7848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6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2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rId33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33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36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39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42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45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48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51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54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57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60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7:16:48Z</dcterms:created>
  <dc:creator>Matt Hamlyn</dc:creator>
  <dc:description>email mhamlyn@jessamine.k12.ky.us</dc:description>
  <dc:language>en-US</dc:language>
  <cp:lastModifiedBy>srubin</cp:lastModifiedBy>
  <dcterms:modified xsi:type="dcterms:W3CDTF">2001-12-13T13:50:13Z</dcterms:modified>
  <cp:revision>42</cp:revision>
  <dc:subject/>
  <dc:title>No Slide Title</dc:title>
</cp:coreProperties>
</file>