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4FA7-E6E5-4D77-B972-966DB006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66C-483A-4090-8358-6C8F61DA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272-67B7-4E7C-A031-37920A87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900-D893-4207-A992-8501EBC8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7077-6965-49F3-BC5C-9CC54EAB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9810-BB9B-4B73-81ED-9146265F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6AD6-AA75-41EE-B298-61432CED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A2C9-C0D8-46A9-9590-A9B9E586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D446-A53B-4C1F-9C44-342EDF8B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E5A8-842A-418E-85C5-C76E6366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06B3-97D2-49BE-940C-B795A787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B4AF-0853-4372-9FC8-B97E7593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9F37-0A00-4526-86D1-D27D7F66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6E0B-5730-4AD3-A3B3-218437D8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962B-B7FA-40C2-BE8B-7BD31162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8B01-F5AF-4433-BA11-85482843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4190-7D52-4345-AF8F-B2D5D42E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F8E-D238-4787-A41A-7E56624F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851-B40F-4690-BF79-8EB59A24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168-1326-47B1-8ACF-CA3F9A79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04B-C277-4B1A-92B3-D678D597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934-8DA5-49B2-B19D-45EE7D06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803-7683-40C4-BCCF-51E67A3A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E5FD-DC66-48B7-AC8A-AB41B75E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0689-4A55-45EA-8EE7-6E780C02AE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D25B-E66F-4A78-A178-4F70C03BC7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m_button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sfms</cp:lastModifiedBy>
  <dcterms:modified xsi:type="dcterms:W3CDTF">1999-10-12T23:28:56Z</dcterms:modified>
  <cp:revision>14</cp:revision>
  <dc:subject/>
  <dc:title>Jeopardy</dc:title>
</cp:coreProperties>
</file>