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1096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621320" y="47941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21320" y="58863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2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5120" y="6461280"/>
              <a:ext cx="37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ygiantsbigblue@yahoo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2860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4624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62132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2132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6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1276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5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6404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03680" y="479592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624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Mark E. Damon</cp:lastModifiedBy>
  <dcterms:modified xsi:type="dcterms:W3CDTF">2002-06-11T01:13:26Z</dcterms:modified>
  <cp:revision>19</cp:revision>
  <dc:subject/>
  <dc:title>No Slide Title</dc:title>
</cp:coreProperties>
</file>