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6A5-4AAA-4A82-BF2C-252C1C28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252-8DD6-493A-BBDD-04F6B9B0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BFE-3BEF-4F28-A09F-2EAB7F4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9BD-926F-484F-98DD-80D0A5BF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B86-153E-443A-A200-3171DDAD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542-19CA-4032-8B57-7210B4D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394-AA36-41F5-87A8-1151D88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F60-0FD4-4D7B-A069-E75AC65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168-1F34-4E3E-830D-4929F91C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65C-9720-4B4D-B537-201F370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A6B-AE9E-43CA-8E10-A0F8A65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1AC-9647-44F9-AA2D-7BD40CD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092-EF8C-4F2F-89AF-4897DF4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83B-E209-41B4-A02F-A88573BFD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hh01633_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33520"/>
            <a:ext cx="8305920" cy="5943600"/>
          </a:xfrm>
          <a:custGeom>
            <a:avLst/>
            <a:gdLst>
              <a:gd name="textAreaLeft" fmla="*/ 385200 w 8305920"/>
              <a:gd name="textAreaRight" fmla="*/ 7920720 w 830592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athy Ferrel</cp:lastModifiedBy>
  <dcterms:modified xsi:type="dcterms:W3CDTF">2002-02-01T20:42:30Z</dcterms:modified>
  <cp:revision>89</cp:revision>
  <dc:subject/>
  <dc:title>No Slide Title</dc:title>
</cp:coreProperties>
</file>