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492-CFCA-4595-9C2E-41BB76D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7DA-B3E5-4DCA-87D0-EE706B19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5BC-EA34-4EC5-8F89-5BAD689E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082-65A2-4BED-86C8-4C8DBBA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FE7-8162-4480-B86D-1D478172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0E5-7E7F-4050-BF7A-F9915AFC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07-443A-486E-BA3A-66047763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87E-B92A-407D-9CC6-3829C40F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BD1-7A3E-4D5C-AA0A-D4C4B8EC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06F-DA22-4AD4-A0DC-9121F0FD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1BA-C6D4-4E65-A0F0-39A0160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94E-0B29-469E-8CE9-4C79519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973-BA2A-4BA0-A186-85DBF617DE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onnie Campbell</cp:lastModifiedBy>
  <dcterms:modified xsi:type="dcterms:W3CDTF">2006-07-24T02:17:32Z</dcterms:modified>
  <cp:revision>8</cp:revision>
  <dc:subject/>
  <dc:title>Password</dc:title>
</cp:coreProperties>
</file>