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33412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419112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3.xml"/><Relationship Id="rId3" Type="http://schemas.openxmlformats.org/officeDocument/2006/relationships/slide" Target="slide40.xml"/><Relationship Id="rId4" Type="http://schemas.openxmlformats.org/officeDocument/2006/relationships/slide" Target="slide37.xml"/><Relationship Id="rId5" Type="http://schemas.openxmlformats.org/officeDocument/2006/relationships/slide" Target="slide34.xml"/><Relationship Id="rId6" Type="http://schemas.openxmlformats.org/officeDocument/2006/relationships/slide" Target="slide31.xml"/><Relationship Id="rId7" Type="http://schemas.openxmlformats.org/officeDocument/2006/relationships/slide" Target="slide28.xml"/><Relationship Id="rId8" Type="http://schemas.openxmlformats.org/officeDocument/2006/relationships/slide" Target="slide25.xml"/><Relationship Id="rId9" Type="http://schemas.openxmlformats.org/officeDocument/2006/relationships/slide" Target="slide22.xml"/><Relationship Id="rId10" Type="http://schemas.openxmlformats.org/officeDocument/2006/relationships/slide" Target="slide19.xml"/><Relationship Id="rId11" Type="http://schemas.openxmlformats.org/officeDocument/2006/relationships/slide" Target="slide16.xml"/><Relationship Id="rId12" Type="http://schemas.openxmlformats.org/officeDocument/2006/relationships/slide" Target="slide13.xml"/><Relationship Id="rId13" Type="http://schemas.openxmlformats.org/officeDocument/2006/relationships/slide" Target="slide10.xml"/><Relationship Id="rId14" Type="http://schemas.openxmlformats.org/officeDocument/2006/relationships/slide" Target="slide7.xml"/><Relationship Id="rId15" Type="http://schemas.openxmlformats.org/officeDocument/2006/relationships/slide" Target="slide4.xml"/><Relationship Id="rId16" Type="http://schemas.openxmlformats.org/officeDocument/2006/relationships/slide" Target="slide2.xm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819520" y="40384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514600" y="228600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58672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286000"/>
            <a:ext cx="0" cy="358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295280"/>
            <a:ext cx="2666880" cy="556272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Prize 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Prize 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Prize 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Prize 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Prize 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Prize 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Prize 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Prize 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Prize 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Prize 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1" action="ppaction://hlinksldjump"/>
              </a:rPr>
              <a:t>Prize 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2" action="ppaction://hlinksldjump"/>
              </a:rPr>
              <a:t>Prize 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3" action="ppaction://hlinksldjump"/>
              </a:rPr>
              <a:t>Prize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4" action="ppaction://hlinksldjump"/>
              </a:rPr>
              <a:t>Prize 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5" action="ppaction://hlinksldjump"/>
              </a:rPr>
              <a:t>Prize 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6" action="ppaction://hlinksldjump"/>
          </p:cNvPr>
          <p:cNvSpPr/>
          <p:nvPr/>
        </p:nvSpPr>
        <p:spPr>
          <a:xfrm>
            <a:off x="1600200" y="362916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8763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6680" y="5381640"/>
            <a:ext cx="183492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Bill G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is the founder of Microso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A.  Bill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 Steve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is the founder of Microso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A.  Bill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 Steve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B.  Bill Clin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 Jerry Lew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380880"/>
            <a:ext cx="7721640" cy="52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Sorry, but that is incorrec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hank you f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play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5638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END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914400"/>
            <a:ext cx="6731280" cy="3994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TEACH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PAREN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THE PRINCIPA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Your decis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54864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715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981080"/>
            <a:ext cx="8559720" cy="247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Ask The Audien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5486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1295280"/>
            <a:ext cx="8559720" cy="4300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CONGRATULATIONS!!You are now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ECHKNOW GENIUS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9T06:19:56Z</dcterms:created>
  <dc:creator>FH Media</dc:creator>
  <dc:description/>
  <dc:language>en-US</dc:language>
  <cp:lastModifiedBy>Linda Starr</cp:lastModifiedBy>
  <dcterms:modified xsi:type="dcterms:W3CDTF">2000-06-07T13:20:18Z</dcterms:modified>
  <cp:revision>78</cp:revision>
  <dc:subject/>
  <dc:title>No Slide Title</dc:title>
</cp:coreProperties>
</file>