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774-E5F8-4495-B031-0C4769FB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ADA-541F-47FB-8FE9-23CF3231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C15-5C7D-4D8C-B6C2-8AC2B9A1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B23-D92D-4A3E-AD68-52616885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137-8680-4B8B-9D5F-43DF990D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62C-1E0A-42AF-B878-0DF93E3F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387-3D13-41A7-BAF4-3D0C9BA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24C-F538-49D5-8E84-536099B5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115-BB7F-4CBD-AF9E-012EE30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825-2A64-4D2B-9041-C899099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33F-058C-4358-B6E7-A0EF7E9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FBE-8971-4143-BA61-5978AFF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83F-54D5-4112-86BF-DCF65A1D0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kquisenb</cp:lastModifiedBy>
  <dcterms:modified xsi:type="dcterms:W3CDTF">2004-07-17T19:43:25Z</dcterms:modified>
  <cp:revision>17</cp:revision>
  <dc:subject/>
  <dc:title>No Slide Title</dc:title>
</cp:coreProperties>
</file>